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D55-DA2A-400A-8036-B2F7F662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0B8-6FCC-4E30-AADD-9ADFB7D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00D-677C-411F-99ED-DFECE2A1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624-8FAD-4D45-BCFB-785AFFC9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5FA-76F8-4687-90DB-2EA5D5BB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102-B636-4C13-BD03-40E0BF2E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5C5-C016-427C-9683-5EA947B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3C3-681B-404D-AE40-9451BCD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256-B484-4528-AEC2-BE5E208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2CC-2EC4-433A-9190-E689055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73E-DBA1-4ED4-A0C1-5FEC6F9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BE8-238D-4AA2-9C8F-B70B533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74F7-555B-4544-85A3-7A604893D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16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The Other Sid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284c"/>
                </a:solidFill>
                <a:latin typeface="Arial"/>
              </a:rPr>
              <a:t>American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. Juvenile Delinquenc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Anti-social or criminal behavior from tee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Reasons give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Pop cul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ivorce ra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Lack of relig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. Rebelling against par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School thought to be the fi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13 million increase in enroll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Increase in math and science class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0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H. Detent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30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relaxation of tensions between the US and it's two major Communist rivals: China and the Soviet Un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veloped by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ixon and Henry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issinger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138400"/>
            <a:ext cx="4132080" cy="475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43720" y="503280"/>
            <a:ext cx="2544840" cy="3857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16680" y="3627360"/>
            <a:ext cx="312876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I. Nixon goes to Chi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Purpos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To establish more normal relations between the countries. Also to persuade Soviets to go towards democrac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668840" cy="43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0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744480"/>
            <a:ext cx="8604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2. Outcom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1828800"/>
            <a:ext cx="41068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Relations between the US and China had ease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US and Soviet Union held a summit and agreed on a plan (SALT I) to limit the nuclear arms each country ha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Tensions were eased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esson Objectiv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The students will be able to explain the causes and effects for the decline of the inner cit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The students will be able to discuss the         problems faced by the African Americans,      Native Americans, etc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The students will be able to explain what        Americans thought created juvenile delinquency. And what could fix i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8220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. Poverty Admits Prosperity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1 in 5, 30 million, Americans were below the poverty lin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2. Groups that faced the most problems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. African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b. Hispanic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. Native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d. Rural American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8220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. Decline of the Inner Citi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Middle class families leave the cities, so does their tax mone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Urban Renew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Tear down slums and   create affordable               hous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Problem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Residents stayed           poor; kicked out if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y had to much              mone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Overall did not 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32360" y="2286000"/>
            <a:ext cx="4440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. African American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1960, 3 million African Americans migrated to the Nort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Racial discrimin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Last hired, first fir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Stuck in poor paying         job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</a:t>
            </a:r>
            <a:r>
              <a:rPr b="0" i="1" lang="en-US" sz="2600" spc="-1" strike="noStrike">
                <a:solidFill>
                  <a:srgbClr val="333333"/>
                </a:solidFill>
                <a:latin typeface="Arial"/>
              </a:rPr>
              <a:t>A Raisin in the Su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lay about a working        class African American fami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22840" y="2138400"/>
            <a:ext cx="31323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0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D. Hispanic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Bracero Program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5 million Mexicans            brought in to work on            farms and field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Temp. work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Many left but                    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50,000 settled in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U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Got little pay and lived in terrible condi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214880" cy="43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. Native American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oorest group in          the n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Termination Polic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Subjected to             same laws as the      whi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Told to 'blend in'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Policy did not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214880" cy="45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0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. Appalach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New York to Georg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Mechanization of mining brought unemploy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Poor health due to lack  of docto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. Lack of proper educ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0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52:22Z</dcterms:created>
  <dc:creator>Courtney Huro</dc:creator>
  <dc:description/>
  <dc:language>en-US</dc:language>
  <cp:lastModifiedBy>School District U46</cp:lastModifiedBy>
  <dcterms:modified xsi:type="dcterms:W3CDTF">2011-03-15T19:23:12Z</dcterms:modified>
  <cp:revision>5</cp:revision>
  <dc:subject/>
  <dc:title>Slide 1</dc:title>
</cp:coreProperties>
</file>